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D74-564A-4DFF-A6E7-3993252D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139-6508-491B-81E7-86CC407C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A6A-9177-4CE3-BF11-906AFEC5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FE1-49D1-463E-B7C7-EE215B7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45F-6887-4080-80A5-F2776A08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261-03EA-4743-A94C-6666C76F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836-9702-4B2E-AFA0-57BD793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5DB-A22C-4AC1-9114-01DCFCF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D20-7F0E-45CF-9001-9A80C91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C47-447C-44D2-9C4B-33D4657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4B5-C5BC-47DB-A4F2-C7617CC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DCF-C609-4AF5-8201-681C315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85D6-08AF-4405-A1DD-6CB9C40A430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8 Kto Božej vôli poddáv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neho dúfa, k nemu ľ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naveky sa nepohn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Božej vôli poddáva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ždy je s Pánom spojený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od ťarchou kríža nevzdáva sa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tráca vieru v sú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Bohu svoju nádej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skala stojí prepev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Boha márna starosť na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osných nocí únav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bezodná je bôľu ča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nám viera do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, ktorý v Kristu spasil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odmerať aj skúšok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4920" y="-18000"/>
            <a:ext cx="9144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eopustí svoje d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as prosieb našich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d nami bd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tmách nám svie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nás chráni, mil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učí pevne stá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ilu dáva vytrva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ž všetko tráp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ž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i rád sa odo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útechy vždy nájd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vždy sa spolie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44:27Z</dcterms:modified>
  <cp:revision>23</cp:revision>
  <dc:subject/>
  <dc:title>Je veľký náš Pán, on slávy je Kráľ Nech do všetkých strán  spev vrúcnych znie chvál.</dc:title>
</cp:coreProperties>
</file>